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770-A220-4374-9A33-02A390E8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D9F-7917-4337-97CF-0048A184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854-BAF8-432A-BBB7-60199A79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B76-4B6E-41CF-A831-73F960CD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1A16-C40F-4D3D-A83E-9A2537B2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809-A21A-4457-A5BC-F22B6992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C305-FA85-4E60-9806-66F7DBB0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367C-B12D-4DD4-A540-E380C8CE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F8E9-1F2C-42C3-9E2A-72123AD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B516-88F2-43F7-AEB5-5575D27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6FE4-3636-4BF3-99AC-DD2321A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F60-2031-40AA-9F76-A330CFF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DBC-110D-4CB8-8943-95B8084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8A7-BFEC-490E-BF3B-49ABC2A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C03D-9B65-4025-B548-CDFC8D5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4F12-C1A3-487E-B365-84BB4F16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2DC-1193-4205-BE0A-C7891BBE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A1E-FB16-4F46-93EC-070A77B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A62-CC03-448C-BA81-6222AF9E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D2B-786C-4041-87A4-31003E65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A1B-CAC7-41DF-9CC0-6FDB51DB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7C6-F87D-4021-A308-F60D90F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814-63C3-46F9-AE7F-F9E18F8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994-6549-485E-ADB9-8262CF7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424C-3DC5-424B-8DBB-7502F9B18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722-F038-48E8-A733-DE023BECA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1557360"/>
            <a:ext cx="763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arity about next learning step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ow do we do this</a:t>
            </a:r>
            <a:r>
              <a:rPr b="1" lang="en-AU" sz="4400" spc="-1" strike="noStrike">
                <a:solidFill>
                  <a:srgbClr val="ffcc66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expectation with students about the next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into the habit of linking the next steps with the success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lay progressions of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 students how to self-assess using the 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gaps in teaching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040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eachers should develop the next steps from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he self-evaluativ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ecdotal observations/teacher ro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from Success cri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from teacher’s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eachers should share what they are thinking for the next step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gap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here possible, give students choice which increases motivation and eng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se assessment tools and data to help you work out what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rite these next steps down somewhere…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1708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tools could we use?</a:t>
            </a:r>
            <a:r>
              <a:rPr b="1" lang="en-AU" sz="4400" spc="-1" strike="noStrike">
                <a:solidFill>
                  <a:srgbClr val="ffcc66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xempl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ications for prac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ily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term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990720"/>
            <a:ext cx="7467480" cy="9219960"/>
          </a:xfrm>
          <a:prstGeom prst="blockArc">
            <a:avLst>
              <a:gd name="adj1" fmla="val 10453754"/>
              <a:gd name="adj2" fmla="val 346246"/>
              <a:gd name="adj3" fmla="val 25875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1828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Shared Clarity about what is to be lear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Learning Inten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relev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Exemplars/ model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success cri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che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657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2527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Assessment   Lite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Promoting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urth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038480"/>
            <a:ext cx="1752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. Active Ref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1148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. Shared Clarity about next learning ste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733920"/>
            <a:ext cx="1828800" cy="7617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6002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52520" y="1600200"/>
            <a:ext cx="1295640" cy="1905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019920" y="3352320"/>
            <a:ext cx="1600200" cy="12193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411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ffective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2667240" cy="1981080"/>
          </a:xfrm>
          <a:prstGeom prst="donut">
            <a:avLst>
              <a:gd name="adj" fmla="val 1487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677440" y="4952880"/>
          <a:ext cx="4600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77440" y="4952880"/>
                    <a:ext cx="460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Assessment For Learn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Archway of Teaching Qualit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638680"/>
            <a:ext cx="754380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5638680"/>
            <a:ext cx="19051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638680"/>
            <a:ext cx="19047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8672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uilding Partnerships for 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5562720"/>
            <a:ext cx="0" cy="9144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5562720"/>
            <a:ext cx="0" cy="9144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essment for Learn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mpetency 6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arity About Next Step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91440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inition of next steps from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arity in the Classro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eacher works from their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eacher communicates the direction to the students “after we have learnt this, what do we learn next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udents need to ensure that the teaching and learning has direction for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830592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teachers need to kn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end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 learning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urces to assist with learning prog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students need to know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should know the big picture for their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need to have a sense of progression for the next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next step is tangibly connected to the big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xt step makes sense for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students need to kn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6309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able to initiate conversations with the teacher about what they need to learn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can identify their next learning step from their own self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work with their teacher to plan the next unit of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491680" y="4149720"/>
          <a:ext cx="6523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1680" y="4149720"/>
                    <a:ext cx="652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Judith S Munro-Keene</dc:creator>
  <dc:description/>
  <dc:language>en-US</dc:language>
  <cp:lastModifiedBy> Administrator</cp:lastModifiedBy>
  <cp:lastPrinted>2004-09-27T03:26:07Z</cp:lastPrinted>
  <dcterms:modified xsi:type="dcterms:W3CDTF">2007-05-03T02:41:55Z</dcterms:modified>
  <cp:revision>33</cp:revision>
  <dc:subject/>
  <dc:title>Training</dc:title>
</cp:coreProperties>
</file>